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64F-C268-4A91-9371-9D2A3752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919-3493-452C-829D-EB65EDCC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3DB-6401-48D1-95D6-6F68591C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F23-F4DD-4D32-BBE1-CECBDD58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1E8-5481-4FFA-BBF3-8606CDF8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FF7-2F0F-4C6E-82FD-6DEBA003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9B1-C872-44C4-9820-A4A7D653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C7A-26E5-4E88-9655-77AE65B7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4FD-B168-47BE-9B39-9E45C9E5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C69-3BAF-4BAD-A851-B5300B9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A0A-2C37-47D8-9BC8-E2D6928F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CA2-3080-4BB1-9C32-7C09F49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F7D9-3F39-4BA4-B22F-D186677FF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6 K tebe, Pane, utieka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tebe, Pane, utieka sa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dlitbou tvoj ľu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láske svojej vypočuj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ilostivý b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íde v prav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oho by sme mali v sve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oho na nebi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tebe letia prosby naš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hlas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velebí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íde v prav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erou zrak náš k tebe hľ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trónu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žehnanie očakáva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 tvojej štedr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íde v prav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06:30Z</dcterms:modified>
  <cp:revision>22</cp:revision>
  <dc:subject/>
  <dc:title>Je veľký náš Pán, on slávy je Kráľ Nech do všetkých strán  spev vrúcnych znie chvál.</dc:title>
</cp:coreProperties>
</file>